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8.jpeg" ContentType="image/jpeg"/>
  <Override PartName="/ppt/media/image23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005B-AB96-4ED1-A3DE-C2FF7CDA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5F9-F1CB-4DFE-AD31-08D3C6ED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+ 6x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+ 6x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8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36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–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4(1)(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36 +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2√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3 ± √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F469-A281-4A31-AE06-EEB98B86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 by a, left b and up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D4F-7BDD-4816-9BCC-20F7782B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39D-28CA-4AE0-832E-8E31DBE7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E8E-E755-4B39-8446-51F2B10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825-8DCC-493B-A2EF-A64F586C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C02-EACD-47A5-8C62-A3D73907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DEE7-670D-49B9-8EBE-39AF6E6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6A3C-4B15-4490-9E19-2FF2AF1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5D24-EAC2-4318-8075-87C043E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8396-7527-4E1B-B687-70AA2F3A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5CEF-5A9D-459C-9C68-6BCA634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D2F-86CF-4581-9115-6FBF673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5EA-9B4E-430C-98D6-3B820D2A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A6F-80AF-4541-AFB9-AE80044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DCD7-751C-4597-B870-5798F66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0C2B-9CCE-4C78-BB27-4874DC2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035-3931-4D1D-BA05-EB05154E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677-A63C-4ABB-999A-DD994951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FFF-C693-4B8B-AE91-431E5AC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C3D-F7EC-4EF0-84CB-5AB69F0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F12-4FD6-444A-8B07-DE6D50FC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939-F3B2-4FE3-86D6-A69B95E7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34C-1B07-4973-AE17-6F205B2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3AF-C073-4845-B8D1-E20706C6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6C1-00E2-4E4F-86B0-6E08DB6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1E7-F356-4CBC-9F57-04621B25F3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6C6-6806-4EA0-A33F-25B4E0C32A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1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dratic Functions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adratic Regression on the Calculato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 data into List 1 and List 2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 S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: quad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o have the data go directly into y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 you press the second e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 v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-v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7 #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Make a scatterplot of the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ind the values for a, h and k.  Graph f(x) together with the data in the same viewing rect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 Approximate the undetermined value(s) in the table.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population in mill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5029200"/>
          <a:ext cx="6112080" cy="1463760"/>
        </p:xfrm>
        <a:graphic>
          <a:graphicData uri="http://schemas.openxmlformats.org/drawingml/2006/table">
            <a:tbl>
              <a:tblPr/>
              <a:tblGrid>
                <a:gridCol w="1371600"/>
                <a:gridCol w="754200"/>
                <a:gridCol w="754200"/>
                <a:gridCol w="755640"/>
                <a:gridCol w="753840"/>
                <a:gridCol w="754200"/>
                <a:gridCol w="968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Solv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6 #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ch the physical situation with the graph of the quadratic function that models it b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7 #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bles that support a suspension bridge, such as the Golden Gate Bridge, can be modeled by parabola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at a 300-foot long suspension bridge has towers at its ends that are 120 feet tall, as illustrated in the accompanying fig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able comes within 20 feet of the road in the center of the bridge, find the quadratic function that models the height of the cable above the road a distance of x feet from the center of the bridg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0"/>
          <p:cNvGrpSpPr/>
          <p:nvPr/>
        </p:nvGrpSpPr>
        <p:grpSpPr>
          <a:xfrm>
            <a:off x="5029200" y="0"/>
            <a:ext cx="3670200" cy="2432160"/>
            <a:chOff x="5029200" y="0"/>
            <a:chExt cx="3670200" cy="2432160"/>
          </a:xfrm>
        </p:grpSpPr>
        <p:pic>
          <p:nvPicPr>
            <p:cNvPr id="123" name="Picture 10" descr="http://sponsorshipsleuth.com/wp-content/uploads/2007/10/golden-gate-bridge-sponsorship.jpg"/>
            <p:cNvPicPr/>
            <p:nvPr/>
          </p:nvPicPr>
          <p:blipFill>
            <a:blip r:embed="rId1"/>
            <a:stretch/>
          </p:blipFill>
          <p:spPr>
            <a:xfrm>
              <a:off x="5029200" y="0"/>
              <a:ext cx="367020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Straight Connector 12"/>
            <p:cNvSpPr/>
            <p:nvPr/>
          </p:nvSpPr>
          <p:spPr>
            <a:xfrm flipH="1">
              <a:off x="6402600" y="235080"/>
              <a:ext cx="1440" cy="136296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8"/>
            <p:cNvSpPr/>
            <p:nvPr/>
          </p:nvSpPr>
          <p:spPr>
            <a:xfrm>
              <a:off x="5566680" y="46080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9"/>
            <p:cNvSpPr/>
            <p:nvPr/>
          </p:nvSpPr>
          <p:spPr>
            <a:xfrm flipH="1" flipV="1">
              <a:off x="6402600" y="1294560"/>
              <a:ext cx="1823040" cy="22716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5"/>
            <p:cNvSpPr/>
            <p:nvPr/>
          </p:nvSpPr>
          <p:spPr>
            <a:xfrm>
              <a:off x="7010280" y="137088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16"/>
            <p:cNvSpPr/>
            <p:nvPr/>
          </p:nvSpPr>
          <p:spPr>
            <a:xfrm flipH="1">
              <a:off x="7616160" y="1220760"/>
              <a:ext cx="1440" cy="22572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7617960" y="115488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609480" y="2489040"/>
          <a:ext cx="32943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89040"/>
                    <a:ext cx="3294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5"/>
          <p:cNvGraphicFramePr/>
          <p:nvPr/>
        </p:nvGraphicFramePr>
        <p:xfrm>
          <a:off x="609480" y="4267080"/>
          <a:ext cx="27939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67080"/>
                    <a:ext cx="2793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Quadratic form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solutions to the quadratic equ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 = 0, where a ≠ 0, are given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x =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0766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2286000" y="2895480"/>
          <a:ext cx="31622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31622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0"/>
          <p:cNvSpPr/>
          <p:nvPr/>
        </p:nvSpPr>
        <p:spPr>
          <a:xfrm>
            <a:off x="457200" y="14479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33520" y="2133720"/>
          <a:ext cx="27302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2730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685800" y="4267080"/>
          <a:ext cx="2476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476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iscrimin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criminant is used to determine the number of real solutions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 =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&gt; 0, there are two real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= 0, there is one real s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&lt; 0, there are no real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0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Write the equation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Calculate the discriminant and determine the number of re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Solve the equ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62120" y="2565360"/>
          <a:ext cx="20955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2095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685800" y="4038480"/>
          <a:ext cx="203040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38480"/>
                    <a:ext cx="2030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673200" y="5486400"/>
          <a:ext cx="2222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00" y="5486400"/>
                    <a:ext cx="2222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ratic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quadratic function is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(x) = 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ere a, b, and c are real numbers, a ≠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ph of a quadratic function is a parabo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domain of a quadratic function is all real numb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se functions have a linear rate of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e graph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2 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609480" y="2209680"/>
          <a:ext cx="307368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30736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Solv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3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984 to 1994 the cumulative number of AIDS cases can be modeled by the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x represents years after 1984.  Estimate the year when 200,000 AIDS cases had been diagno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122560" y="3048120"/>
          <a:ext cx="44305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3048120"/>
                    <a:ext cx="4430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4 #1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ctangular pen for a pet is under construction using 100 feet of f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Determine the dimension that result in an area of 576 square fe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Find the dimensions that give the maximum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ing Quadratic Inequa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in Standar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boundary numbers to tes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table or graph to write your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13 Solve each equation and inequality.  Write the solution set for each inequality in interval no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523880" y="2870280"/>
          <a:ext cx="1930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7028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1523880" y="3251160"/>
          <a:ext cx="19306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25116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1523880" y="3708360"/>
          <a:ext cx="19306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70836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1523880" y="4495680"/>
          <a:ext cx="13716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49568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8"/>
          <p:cNvGraphicFramePr/>
          <p:nvPr/>
        </p:nvGraphicFramePr>
        <p:xfrm>
          <a:off x="1486080" y="4876920"/>
          <a:ext cx="148572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86080" y="4876920"/>
                    <a:ext cx="14857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1447920" y="5334120"/>
          <a:ext cx="137160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33412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092240" y="1981080"/>
          <a:ext cx="1574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981080"/>
                    <a:ext cx="1574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"/>
          <p:cNvGraphicFramePr/>
          <p:nvPr/>
        </p:nvGraphicFramePr>
        <p:xfrm>
          <a:off x="1092240" y="2336760"/>
          <a:ext cx="15746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2240" y="2336760"/>
                    <a:ext cx="1574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1066680" y="2743200"/>
          <a:ext cx="15750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743200"/>
                    <a:ext cx="1575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1143000" y="3505320"/>
          <a:ext cx="177804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50532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8"/>
          <p:cNvGraphicFramePr/>
          <p:nvPr/>
        </p:nvGraphicFramePr>
        <p:xfrm>
          <a:off x="1143000" y="3860640"/>
          <a:ext cx="177804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386064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9"/>
          <p:cNvGraphicFramePr/>
          <p:nvPr/>
        </p:nvGraphicFramePr>
        <p:xfrm>
          <a:off x="1193760" y="4241880"/>
          <a:ext cx="17780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3760" y="424188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1143000" y="5029200"/>
          <a:ext cx="198108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02920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1"/>
          <p:cNvGraphicFramePr/>
          <p:nvPr/>
        </p:nvGraphicFramePr>
        <p:xfrm>
          <a:off x="1143000" y="5410080"/>
          <a:ext cx="198108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41008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2"/>
          <p:cNvGraphicFramePr/>
          <p:nvPr/>
        </p:nvGraphicFramePr>
        <p:xfrm>
          <a:off x="1143000" y="5791320"/>
          <a:ext cx="198108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579132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4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 of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hifting and Stre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attern do you s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tical Shif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Shift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) + a, shift graph up a un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) – a, shift graph down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ximum or minimum point of a parab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xis of sym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ertical line passing through the ve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ing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quadratic function is this “a” (the coefficient of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ositive the graph opens 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negative the graph opens d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r values of |a| result in a narrower parabola, smaller values of |a| result in a wider parab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(x +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(x –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attern do you s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rizontal Shif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izontal Shif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 + a), shift graph left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 – a), shift graph right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6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e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and Horizontal stretch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&gt;0, the graph g(x) = af(x) stretches the graph vertically by a factor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&gt;1, the graph g(x) = f(ax) compresses the graph horizontally by a factor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x) = f(x/a) compresses the graph horizontally by a factor of 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-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gative Coeffici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multiply by a negative it reflects (flips) the graph over the x-axi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 what will ha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-2(x + 5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f(x + b) 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29  Use the accompanying graph of   y = f(x) to sketch a graph of each equ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y = f(x +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y = -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Y = 2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y = f(x – 1)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y = -f(x)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y = f(1/2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8"/>
          <p:cNvGrpSpPr/>
          <p:nvPr/>
        </p:nvGrpSpPr>
        <p:grpSpPr>
          <a:xfrm>
            <a:off x="3124080" y="2971800"/>
            <a:ext cx="1886040" cy="1276200"/>
            <a:chOff x="3124080" y="2971800"/>
            <a:chExt cx="1886040" cy="1276200"/>
          </a:xfrm>
        </p:grpSpPr>
        <p:pic>
          <p:nvPicPr>
            <p:cNvPr id="232" name="Picture 6" descr=""/>
            <p:cNvPicPr/>
            <p:nvPr/>
          </p:nvPicPr>
          <p:blipFill>
            <a:blip r:embed="rId2"/>
            <a:stretch/>
          </p:blipFill>
          <p:spPr>
            <a:xfrm>
              <a:off x="3124080" y="2971800"/>
              <a:ext cx="188604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6"/>
            <p:cNvSpPr/>
            <p:nvPr/>
          </p:nvSpPr>
          <p:spPr>
            <a:xfrm>
              <a:off x="4080600" y="3627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3558240" y="362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Parent Grap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|x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30  Use transformations for graphs to sketch a graph of f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1982880" y="2590920"/>
          <a:ext cx="15224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590920"/>
                    <a:ext cx="15224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5"/>
          <p:cNvGraphicFramePr/>
          <p:nvPr/>
        </p:nvGraphicFramePr>
        <p:xfrm>
          <a:off x="1981080" y="3657600"/>
          <a:ext cx="1702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657600"/>
                    <a:ext cx="1702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1905120" y="4678200"/>
          <a:ext cx="1873080" cy="42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78200"/>
                    <a:ext cx="1873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tex Form of a Quadratic Fun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rabolic graph of f(x) = a(x – h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k has vertex (h,k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 opens up when a &gt; 0, down when a &l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4 Identify f as being linear, quadratic, or neither.  If it is quadratic, identify the leading coefficient and evaluate f(-2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  f(x) = 1 – 2x + 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  f(x) = 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  f(x) = 1/5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Identify the vertex and the leading coefficient.  Then write the equation as f(x) = 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bx + 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8  f(x) = 5(x + 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0  f(x) = ½(x +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nding the vert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ertex for the graph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(x) = a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+ bx + c with a ≠ 0 is the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971800" y="3009960"/>
          <a:ext cx="20574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09960"/>
                    <a:ext cx="20574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 Use the vertex formula to determine the vertex of the graph of f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6 f(x) = 2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2x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30 f(x) = -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leting the Squ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y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+ 6x – 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 Write the given equation in the form f(x) = (x – h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0  f(x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0x + 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0  f(x) = 6 + 5x – 10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17:22Z</dcterms:created>
  <dc:creator>Preferred Customer</dc:creator>
  <dc:description/>
  <dc:language>en-US</dc:language>
  <cp:lastModifiedBy>beery</cp:lastModifiedBy>
  <dcterms:modified xsi:type="dcterms:W3CDTF">2008-09-24T03:21:47Z</dcterms:modified>
  <cp:revision>16</cp:revision>
  <dc:subject/>
  <dc:title>3.1</dc:title>
</cp:coreProperties>
</file>